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3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</p:sldIdLst>
  <p:sldSz cx="9144000" cy="6858000"/>
  <p:notesSz cx="71135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E48-5F8C-421A-8FA6-4DA6E863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43C-8A19-4676-A30D-089C6685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A95-2694-48AE-96A7-CBAD7355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749-0CB0-4962-B6BB-AC7FEC07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861-A924-4FCE-AA99-D7BAA806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F05-CC26-4684-8816-8430B575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5D3-EF19-4657-8C7D-7E08442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41E-2ED5-4B99-8304-CE315AFE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570-70E9-40C0-802A-880BC9A2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CD9-C6AF-485A-A1FA-EA459599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A27-3FEE-4144-AD90-E50D25B3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1F1-4165-4FB9-B17C-CF035024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451E-BBDE-43DD-8D1A-F9A68805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CDDC-1F1F-4A5C-AD8C-28BF0267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CAC-8860-481C-A118-03B5D9CE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E1D3-F919-46E2-848E-9D7ABAAE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0EEC-7E49-43D5-9455-4F0A3789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08D0-AA0F-459A-91BD-D3835DFA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1F32-5D89-4703-BEEB-2793581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B2F4-91F9-4A0F-8155-68192479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5AE5-2A89-40CA-A4B4-3D839AF8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CAB7-07CA-4AB9-BAF5-4A4D0692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223A-A665-4B45-8D3E-F94DB73D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EFD9-EAA6-4516-939D-2863923A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3BF8-9659-45BE-A8A8-C689419D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4421E-DD99-4019-93AD-F77BF3BE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EED0-7F92-403A-AA8B-2AA51651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3FAA-B289-4C5D-A33F-2E72F7DD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6A7A-9244-4A14-A416-EE15263B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27FE-ADB3-4DC5-AF2F-BBF391D6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82B3-DDD7-4FF0-A9A9-64CEABBF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87B0-050C-4ED1-B317-7E392750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796E1-778C-4C96-A5CC-613C343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695B-335E-4D58-AD31-DF5C27CA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401B-54CA-4685-8C28-8C17506B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1D18-45E9-4222-BAEC-A5559400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324480" y="533520"/>
            <a:ext cx="2438640" cy="9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8822-3EF6-4D75-A061-80FD4A576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4"/>
          <p:cNvSpPr>
            <a:spLocks noGrp="1"/>
          </p:cNvSpPr>
          <p:nvPr>
            <p:ph type="body"/>
          </p:nvPr>
        </p:nvSpPr>
        <p:spPr>
          <a:xfrm>
            <a:off x="457200" y="173664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12120" indent="-3121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73664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4554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68E1-7C8E-4C12-B50C-99A27048C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57200" y="1676520"/>
            <a:ext cx="5867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body"/>
          </p:nvPr>
        </p:nvSpPr>
        <p:spPr>
          <a:xfrm>
            <a:off x="457200" y="173664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12120" indent="-3121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FF3D-8A50-4B73-86D6-6CFE9809C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6823080" y="533520"/>
            <a:ext cx="1417680" cy="152388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542360" y="289080"/>
            <a:ext cx="148752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ffffff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Neue ExtBlack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456840" y="17366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1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2" marL="308520" indent="-308520">
              <a:spcBef>
                <a:spcPts val="799"/>
              </a:spcBef>
              <a:buClr>
                <a:srgbClr val="000000"/>
              </a:buClr>
              <a:buFont typeface="HelveticaNeue ExtBlack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3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4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5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  <a:p>
            <a:pPr lvl="6"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Neue ExtBlackCon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6805440" y="303120"/>
            <a:ext cx="17528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228240" cy="69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Arial Narrow"/>
              </a:rPr>
              <a:t>2010 Media Recap</a:t>
            </a:r>
            <a:endParaRPr b="1" lang="en-US" sz="3600" spc="-1" strike="noStrike">
              <a:solidFill>
                <a:srgbClr val="000000"/>
              </a:solidFill>
              <a:latin typeface="HelveticaNeue ExtBlackCond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65240" y="5487840"/>
            <a:ext cx="1055520" cy="3193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915840" y="210960"/>
            <a:ext cx="1019160" cy="30024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8621640" y="150840"/>
            <a:ext cx="522360" cy="3826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-7920" y="6359400"/>
            <a:ext cx="9144000" cy="4273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203040" y="131760"/>
            <a:ext cx="489240" cy="4698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5275440" y="184320"/>
            <a:ext cx="1415880" cy="29520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8"/>
          <a:stretch/>
        </p:blipFill>
        <p:spPr>
          <a:xfrm>
            <a:off x="6975360" y="190440"/>
            <a:ext cx="1103400" cy="3175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9"/>
          <a:stretch/>
        </p:blipFill>
        <p:spPr>
          <a:xfrm>
            <a:off x="2263680" y="150840"/>
            <a:ext cx="1543320" cy="3650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10"/>
          <a:stretch/>
        </p:blipFill>
        <p:spPr>
          <a:xfrm>
            <a:off x="4203720" y="79200"/>
            <a:ext cx="6634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55:00Z</dcterms:created>
  <dc:creator>TBS</dc:creator>
  <dc:description/>
  <dc:language>en-US</dc:language>
  <cp:lastModifiedBy>anitar</cp:lastModifiedBy>
  <dcterms:modified xsi:type="dcterms:W3CDTF">2011-05-20T17:33:48Z</dcterms:modified>
  <cp:revision>6</cp:revision>
  <dc:subject/>
  <dc:title>Slide 1</dc:title>
</cp:coreProperties>
</file>